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53B-15DC-4709-8791-4F690EB1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21C-8861-4FDC-AE6F-5AB64DB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C02-CF11-489F-8E32-483F350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3C1-DEE4-4590-ADE9-9FE639A8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7B5-C952-4A1B-8BB7-52272D24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DA7-1642-4C78-BC01-E9D0D3D7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87D-6199-42F0-B50A-D4571D0C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E81-F0FE-43AF-B23A-2497EB4E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727-C7CF-4522-8287-74D389FE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630-C180-49D5-B328-73DD48C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5EB-79DE-463E-B7C6-329DDDFC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3ED-D40E-46E1-9E47-B40A7A6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350-D9A1-4E35-A3CB-E6FC4BDA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xnet.rrc.mb.ca/davidb/laselva62_jpg_jpg.jpg&amp;imgrefurl=http://xnet.rrc.mb.ca/davidb/camoulflage.htm&amp;usg=__c0dqIphsQ4SxT6Sqrc0Wz4X7hcA=&amp;h=494&amp;w=739&amp;sz=56&amp;hl=en&amp;start=16&amp;um=1&amp;itbs=1&amp;tbnid=rHzodEXw5jHmyM:&amp;tbnh=94&amp;tbnw=141&amp;prev=/images%3Fq%3Danimal%2Bwarning%2Bcoloration%26um%3D1%26hl%3Den%26safe%3Dactive%26sa%3DG%26rls%3Dcom.microsoft:*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1.photographersdirect.com/img/17165/wm/pd1597063.jpg&amp;imgrefurl=http://www.photographersdirect.com/buyers/stockphoto.asp%3Fimageid%3D1597063&amp;usg=__uKmp5x0Znl7E4hvkny0GA2R-uq0=&amp;h=500&amp;w=354&amp;sz=75&amp;hl=en&amp;start=14&amp;um=1&amp;itbs=1&amp;tbnid=5CpE7Pt0mK7CDM:&amp;tbnh=130&amp;tbnw=92&amp;prev=/images%3Fq%3Danimal%2Bwarning%2Bcoloration%26um%3D1%26hl%3Den%26safe%3Dactive%26sa%3DG%26rls%3Dcom.microsoft:*%26tbs%3Disch: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upload.wikimedia.org/wikipedia/commons/a/aa/Red_milk_snake.JPG&amp;imgrefurl=http://techforedblog.blogspot.com/2010/01/warning-coloration.html&amp;usg=__HJLrokbo5P9ReDX2LySV360a9rE=&amp;h=342&amp;w=440&amp;sz=177&amp;hl=en&amp;start=22&amp;um=1&amp;itbs=1&amp;tbnid=5veUFzu4UmkaMM:&amp;tbnh=99&amp;tbnw=127&amp;prev=/images%3Fq%3Danimal%2Bwarning%2Bcoloration%26start%3D18%26um%3D1%26hl%3Den%26safe%3Dactive%26sa%3DN%26rls%3Dcom.microsoft:*%26ndsp%3D18%26tbs%3Disch:1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cache3.asset-cache.net/xc/87358838.jpg%3Fv%3D1%26c%3DIWSAsset%26k%3D2%26d%3D07598B91EACD482931E4F5923072782BFE4CAA55875F735ED90D76054B2D8A0BE30A760B0D811297&amp;imgrefurl=http://www.jupiterimages.com/Image/royaltyFree/87358838&amp;usg=__-sRBn9VDdZeTc5CpMwixxy4ojIo=&amp;h=337&amp;w=507&amp;sz=42&amp;hl=en&amp;start=32&amp;um=1&amp;itbs=1&amp;tbnid=rGIQIPOJtq_4dM:&amp;tbnh=87&amp;tbnw=131&amp;prev=/images%3Fq%3Danimal%2Bwarning%2Bcoloration%26start%3D18%26um%3D1%26hl%3Den%26safe%3Dactive%26sa%3DN%26rls%3Dcom.microsoft:*%26ndsp%3D18%26tbs%3Disch:1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www.animalweb.com/images-animalpages/amphibians-images/poison-arrow-frog.jpg&amp;imgrefurl=http://www.animalweb.com/an-amphibians.asp&amp;usg=__xLqTDwpWaVl1yVUUnSFbAcl6z6g=&amp;h=139&amp;w=180&amp;sz=16&amp;hl=en&amp;start=49&amp;um=1&amp;itbs=1&amp;tbnid=qoHyQca2jXQSAM:&amp;tbnh=78&amp;tbnw=101&amp;prev=/images%3Fq%3Danimal%2Bwarning%2Bcoloration%26start%3D36%26um%3D1%26hl%3Den%26safe%3Dactive%26sa%3DN%26rls%3Dcom.microsoft:*%26ndsp%3D18%26tbs%3Disch:1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fotosa.ru/stock_photo/Westend61_RF/p_1708845.jpg&amp;imgrefurl=http://fotosa.ru/ru/stock/search.asp%3FID%3D1708845%26anchor%3D9&amp;usg=__YpEjREGD4hzWZjdhYdUoqmgDTS8=&amp;h=580&amp;w=386&amp;sz=31&amp;hl=en&amp;start=38&amp;um=1&amp;itbs=1&amp;tbnid=DkU5KQXB8L_DAM:&amp;tbnh=134&amp;tbnw=89&amp;prev=/images%3Fq%3Danimal%2Bwarning%2Bcoloration%26start%3D36%26um%3D1%26hl%3Den%26safe%3Dactive%26sa%3DN%26rls%3Dcom.microsoft:*%26ndsp%3D18%26tbs%3Disch:1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urry Up"/>
              </a:rPr>
              <a:t>Camoufl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urry 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rry Up"/>
              </a:rPr>
              <a:t>concealment by means of disgu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see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amouflaged-iguana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en Light"/>
              </a:rPr>
              <a:t>Mimic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en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en Light"/>
              </a:rPr>
              <a:t>resembling another organism or natural objects among which it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en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en Light"/>
              </a:rPr>
              <a:t>secures it a selective advantage (as protection from pred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62680" y="2943360"/>
            <a:ext cx="3209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coloration is the exact opposite of camoufl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being to warn an enemy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e bad or are poisonous, an evil odor, a sting, a poison-f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752480"/>
            <a:ext cx="134316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523880"/>
            <a:ext cx="8766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3200400"/>
            <a:ext cx="1209960" cy="94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8880" y="46483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4267080"/>
            <a:ext cx="9622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4120" y="2819520"/>
            <a:ext cx="847440" cy="12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029200" y="5181480"/>
            <a:ext cx="1181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53:00Z</dcterms:created>
  <dc:creator>Clear Creek ISD</dc:creator>
  <dc:description/>
  <dc:language>en-US</dc:language>
  <cp:lastModifiedBy>Clear Creek ISD</cp:lastModifiedBy>
  <dcterms:modified xsi:type="dcterms:W3CDTF">2010-02-23T19:11:19Z</dcterms:modified>
  <cp:revision>2</cp:revision>
  <dc:subject/>
  <dc:title>Camouflage</dc:title>
</cp:coreProperties>
</file>